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3E6-2AE3-4DF9-BE55-93C29F89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DB7-AEEF-40AE-ADCC-E066EBCF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FA6-8712-46F7-8B22-3899B80F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C47-4F9C-4D42-A275-C54042AB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5D9-081C-4537-85D2-CF8C753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89C-A85E-4BE0-8D55-DFC03D1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1C7-B60C-4816-9BD1-7456FFE8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2DA-DA32-46BF-A1CF-CA32F9B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97B-6A78-46CB-B5D2-AB2DCB8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AFB-E4A8-4E89-B6A9-9072909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DA1-67F5-453F-9105-0233F3B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95B-2B5D-4123-A9C8-45EC85E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F8BD-E9BA-4534-9E57-8C48539F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Mar. 19 &amp; 20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uided Reading  Ch. 9 Sect. 1 (front &amp; 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0" y="1143000"/>
            <a:ext cx="914400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cus 3-19 &amp; 20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 Italy similar to Greece?  (Name at least tw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Large Greece Map"/>
          <p:cNvPicPr/>
          <p:nvPr/>
        </p:nvPicPr>
        <p:blipFill>
          <a:blip r:embed="rId1"/>
          <a:stretch/>
        </p:blipFill>
        <p:spPr>
          <a:xfrm>
            <a:off x="4572000" y="2028960"/>
            <a:ext cx="457200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3657600" y="2057400"/>
            <a:ext cx="990720" cy="609480"/>
          </a:xfrm>
          <a:prstGeom prst="rect">
            <a:avLst/>
          </a:prstGeom>
          <a:solidFill>
            <a:srgbClr val="a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worldatlas.com/webimage/countrys/europe/lgcolor/itcolor.gif"/>
          <p:cNvPicPr/>
          <p:nvPr/>
        </p:nvPicPr>
        <p:blipFill>
          <a:blip r:embed="rId2"/>
          <a:stretch/>
        </p:blipFill>
        <p:spPr>
          <a:xfrm>
            <a:off x="0" y="1960560"/>
            <a:ext cx="4572000" cy="4897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soldiers_right"/>
          <p:cNvPicPr/>
          <p:nvPr/>
        </p:nvPicPr>
        <p:blipFill>
          <a:blip r:embed="rId3"/>
          <a:srcRect l="9421" t="0" r="52943" b="0"/>
          <a:stretch/>
        </p:blipFill>
        <p:spPr>
          <a:xfrm>
            <a:off x="4267080" y="1981080"/>
            <a:ext cx="609840" cy="1791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3886200" y="609480"/>
            <a:ext cx="373392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hilly/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arrow penins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close to sea—sea faring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center of Mediterranean 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Difference---Italy had more fertile land than Gre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5486400" y="0"/>
            <a:ext cx="365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Open up your Greece Voc. P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Roman Empire Map"/>
          <p:cNvPicPr/>
          <p:nvPr/>
        </p:nvPicPr>
        <p:blipFill>
          <a:blip r:embed="rId1"/>
          <a:srcRect l="0" t="-2211" r="0" b="-993"/>
          <a:stretch/>
        </p:blipFill>
        <p:spPr>
          <a:xfrm>
            <a:off x="0" y="-152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Roman Empire Map"/>
          <p:cNvPicPr/>
          <p:nvPr/>
        </p:nvPicPr>
        <p:blipFill>
          <a:blip r:embed="rId1"/>
          <a:srcRect l="0" t="18487" r="0" b="5976"/>
          <a:stretch/>
        </p:blipFill>
        <p:spPr>
          <a:xfrm>
            <a:off x="228600" y="0"/>
            <a:ext cx="853452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greece2"/>
          <p:cNvPicPr/>
          <p:nvPr/>
        </p:nvPicPr>
        <p:blipFill>
          <a:blip r:embed="rId2"/>
          <a:srcRect l="0" t="31798" r="10833" b="8374"/>
          <a:stretch/>
        </p:blipFill>
        <p:spPr>
          <a:xfrm>
            <a:off x="380880" y="4133880"/>
            <a:ext cx="815364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514600" y="3124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 A.D.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3352680"/>
            <a:ext cx="962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ruled firs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Which empire expanded farther ea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controlled the largest area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Which empire expanded farther w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990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847800" y="5105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1:58Z</dcterms:created>
  <dc:creator>Selena Ramsey</dc:creator>
  <dc:description/>
  <dc:language>en-US</dc:language>
  <cp:lastModifiedBy>poweruser</cp:lastModifiedBy>
  <dcterms:modified xsi:type="dcterms:W3CDTF">2012-03-20T17:04:34Z</dcterms:modified>
  <cp:revision>35</cp:revision>
  <dc:subject/>
  <dc:title>Slide 1</dc:title>
</cp:coreProperties>
</file>